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F9B-FA66-4763-8579-7A777D5F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5D4-123B-44A7-BA8E-4E528B7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0946-D44F-44CC-B55C-62CA32CB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10B60-65F5-4C23-A191-2E24FD6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2ED03-2D91-4F27-80CE-3841B2A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13555-1B2D-4122-AE3E-11134A8A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B47EB-ECE1-4E1C-A1C4-B0977C2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18C88-9893-433C-A761-AD7BDE2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FFB6C-CE35-4D4B-BB99-D0F972E3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05AC9-511F-40F2-8E5B-81F7FAF8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B415-AAA0-43D2-90F1-082DC707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6B95-1FAF-4239-B3AC-8C402BB5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53E-564F-4167-9F2A-AD1728BB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2660D-C38E-4EA3-BD12-7ADBD34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57BAD-64CD-4BDC-936D-A00DEAB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3AF3B-6231-4EE1-94D8-BF49C1F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A11E0-6AA7-4E89-9FF3-38A08B11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46846-BF74-447E-AC5C-3FB52A3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C6BCB-FDE4-4A0A-AE04-3DC7E8F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58197-3EB3-4477-B0A4-D63F349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C340-ACE9-440D-9898-474CE20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4F3C1-3B38-4664-81E4-8B262905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39C40-6116-4AC5-A22B-73B538EE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F38-67D2-4618-AA50-500D0265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EBA55-49B1-4790-8DE1-5C26AED2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A15C9-B779-41CB-9808-47BAE426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29D38-86BE-4EC5-A628-6E1C852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20DDF-61F2-4564-82B9-3BD3714C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42B15-2717-4FE4-A041-0ECAFED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29A6A-FE3C-43AA-B56C-4521F1AA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E6219-5338-4743-8968-DE698B27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A9AD9-5D01-49B8-8E5B-A9B06C69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FB5AB-ECD4-432B-9C95-9A3863CA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67C3A-3C34-4D6D-AF74-BA8A588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189E-3FA0-4678-8DB7-613B63F8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6EB4C-6F2D-4AE8-A847-22649E07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FC44F-6560-4F6A-B07A-F1EAD513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7DCA-744B-49C4-98FC-4181B1EC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53EB-F297-4CCE-AEDC-0C20B06C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5FD73-CF39-4279-8033-1C7D6F6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02921-AAB9-4D3E-BD37-FBD5275B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D82A4-90EE-47CB-887D-1EAD692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648AA-D69C-4DF3-A1C6-EAD0C3C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CD3AA-C3E8-4204-9CE6-9C27671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45C4C-9C03-4734-AB93-8B695FA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C2B-BA7D-4DE0-8302-6CEEA3AA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B260D-0E19-4B55-A55D-790DACC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E4DE-C57F-4B5A-B42E-A2150D7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76BA0-F452-421E-B190-3BE642B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D3E17-3C25-498F-9C38-5B8FBDE5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04661-4B92-43E4-A8E5-0B6163B7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6B53E-E9BE-400C-B70F-1CC338C9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6CF98-AD2E-4B81-8568-B13BF4A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086FC-4265-4D9B-8077-AC3FA611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92545-DA5C-4650-A061-DFD1944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83350-6D2A-43AF-8BBC-3C74B19F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DA4-D2B2-4CEC-89D8-881A458D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87116-4207-44E1-B2F8-A02E18E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B3B16-EFEA-48AF-ADF6-DD4ABF7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CE87B-430B-418D-94E8-2966DCD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21F6C-05C4-4ADA-AB45-BBE51EC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A7CBD-D6AE-4CF5-9487-A78BB1BA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FA88B-01FD-4111-A7DC-3C7C92E7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CFA73-1A7E-4DF0-AFC0-F6211EC7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8910C-0209-4CCD-8BEE-B3178F41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EF1F0-BFF3-4ADD-81EF-F200A18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21D07-1180-4AD3-A339-EE4C1A2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898-277A-4982-97C4-D30461D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D2BB-F862-4015-956E-20BCE9D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1DD94-87CF-4E75-8AEA-6E2A328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24442-1F9C-4001-9307-12558A79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88EA3-8B55-4F82-800F-DC42AF6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197DC-C009-4C10-9676-9A0D2B13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FA311-56A6-4D80-AA64-137A50A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D1FBC-12E9-499D-A070-E1D71F30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A6664-333C-44F4-B8E1-9CD47ED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E4E10-DF4D-4855-A85A-4C123015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86F61-BC05-459F-B3C3-31B5221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F78-ADE6-4D84-986D-C51103C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28BED-D477-437D-9819-8DDE6161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F3B16-F08C-43DA-BBD5-8DDA9DC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E87AD-73C4-4D33-8D9F-C81B2424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E02A8-0525-487E-8A14-99A4561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F4F95-FDB3-4925-8DBA-D6400550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7717F-FD6A-4B50-8D32-CFD56BB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76A7E-F9B7-4839-B009-6C9A49E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F7CDA-F1D0-4A40-B86A-35D0A45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E7E8A-1D08-4A92-B7B8-479558D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487EE-B3CD-4D05-9C2E-BCDA063E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249-22B9-4794-984C-BB376A3F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B560B-CA05-4414-B838-84D31C72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21EC9-1080-43AD-9B58-67D4F2A6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C3DEE-84FE-4DE8-A8E9-FEA7AB8B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60EF8-635C-4E82-9857-75933932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D20BA-5914-45D9-B3F8-01B0B604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49C25-B680-4D83-AA0F-CC7E5A4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6D7C7-A8E1-476B-8E93-5F1472E8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2002F-F932-423D-9CC0-61630B4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84172-A0AE-43F4-AEF5-895E4A8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47759-65EB-49DE-A00B-2902769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C4CE-7085-4B46-B4FD-C2F37DE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6D98B-219C-4E9F-B6A5-E3267BC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07E1F-EAE7-499A-80A2-05F5CF49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45D95-300B-48BD-8591-B3FE798F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F9304-6549-47FA-AA4E-2CAB75D8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AFCDB-101E-4302-82E9-6A057742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6CDB0-CE0E-4CB2-B916-8897218E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0A050-70FD-40B2-AD5D-67FEB480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F693F-4206-4710-8BC6-0CA4F5CF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DAABF-AEBA-4647-94F9-D011B65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7496C-5FAE-4769-A27F-9850F8F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472-0EF8-4A64-BFC2-F1AD18F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BFB5-B31B-40BE-8E26-17D8F1C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33275-69A6-4747-8BB5-E1A5011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9520C-11E2-4CE3-84CE-D199A23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DBFC9-15C2-43D0-ADC6-FA4B5A5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0F3B5-7D9B-45DA-9EBC-5FA3084D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80845-B1BC-4942-AFAF-8394798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C6C96-D811-41FB-BB9D-591992F6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44AA8-92AD-437F-88F3-24E9CDE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03B23-7AEA-4A92-B7D2-0DE27266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79725-00D6-4430-9BFD-2CE7F32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9D5C5-923B-4789-8538-8471EF2A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E95E-6E3D-49E1-95DA-0BA4FD2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F5D5AF-A88F-472B-A948-265730A0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BDF3F-7487-4FD4-B466-5933650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DDC4E-2425-4870-A548-E7B7A73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3C347-2753-4F1F-A167-35186A8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8D9FA-4ADF-48A6-A223-B1BD07E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E8877-17B1-4325-9F63-86319B1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F682F-3718-41D4-B9A0-FA12F70F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10341-7483-4ED8-AE23-269942B4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D2DB5-0CD3-4239-88A1-851B55E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C830F-9524-4BCD-9E81-981A4CA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C8A-190B-4CD4-BA11-F682E48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72EB0-52DC-4A5E-97BA-A1A0DB6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B6499-CB81-4855-B585-EC51A09B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E3E5F-B903-4698-9A50-47C9D29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B852E-0720-4180-BE0E-6D35493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CD120-94B5-4987-8F69-D83104E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3DFF2-9E4B-4BC9-BA27-D2203CC8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34E0A-9EE1-48C5-AB8D-280CB4E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D217D-CF0E-4D95-82F4-78EF1225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BE620-77A3-4529-9063-3906727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C1A8B-9C21-435D-B3FE-DD759EA1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E27-EB38-4C62-BDDA-A53E692E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DF80A-7497-4E6C-B0F1-96FC9F7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3ABF5-209D-402C-8F9A-817A348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D2630-7884-4A15-A78D-7EDF7B6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BF6A8-1DA7-463F-89BE-940B7059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DFE4B-7D57-4917-A0D2-C8FD063F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DA710-7482-460B-BC4E-17C8981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9A761-FF7D-4C29-B00A-1DD8330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CA15E-B294-4DA5-9D65-F668194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0B541-DC4C-4393-9EAC-1D91ED66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0C442-F311-4130-A5A0-7E8B91A4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AA9-6410-4469-A80E-ECBD2B63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5CDF2-A7EA-4633-80BD-4E075F7B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FD52F-80E4-4ED3-8BDE-081AFBD7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56D41-8AD0-4214-BEBF-DC53114C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DBCF5-C7D2-4E3F-9839-2190CAFC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6DD6A-4509-431A-9B2E-61D46717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9A03F-AEA3-4292-9C4B-1E96F97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12875-27F0-449E-804A-B2F184AC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400B6-3157-400F-BF6F-811772F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7D4C9-2B86-4305-A3D8-BA5A285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3CB0D-8352-41F7-8C2F-894601E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2448-B87C-4FF6-B4DB-71AC2CD2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14E93-5CEC-47E9-BA88-BAE534C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D86B2-436A-4571-B7FC-6E9B0904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0376A-42A6-4225-9C33-44516D6E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19E7-3A65-437E-938A-975D63E3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03AE-4C98-417D-8AC2-D189320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615B-D3E3-4759-AC60-9073ECC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CE6C-40D9-4C92-9B99-7F42B36C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6E0-E262-4009-A462-B790DD5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F4D8-670D-44FC-BA2E-20D7816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3CC9-38B5-44AB-AF5A-FFA7CC3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9A74-7784-418F-A383-2423A02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F984-5743-4A83-8D59-40C4A41C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C9EB-FFE2-45ED-873D-BF8DEB9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3202-DE03-4B1C-9A4B-8B144EE8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D600-2597-403E-B83C-38EC4A46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4FB9-81FA-4BDE-872D-9B43E346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E66D-B434-40E9-B086-6F7722BC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F47D-7B31-4D37-9AAF-5CAF03E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7BF-A821-40EA-B86A-AB23422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0360-9CFE-4F30-9289-EDF2104A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797E-FFE8-478D-8C62-030A5632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B6DC-1510-41CA-BF58-7D459F9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5403-4BC9-40EF-B3E2-43929AF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9945-ADAD-4FAB-89A7-BB21DFF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29D77-D263-485E-AD22-85837CF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E6A6-08B4-4F8D-A895-AB2DAF03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3A3A-C9ED-4395-B251-0FBCEA9E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7170-5CC3-4823-B9C0-732C3DD6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F5595-830A-486E-B0B6-84D6A4A5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51E-87FF-4D93-A140-9315878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51D3-FA6F-4561-BFA9-2582C508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C66DE-496A-4F88-AA48-BBFA3543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2F0F2-8E78-4C64-9BD4-253AE85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C2B4-2B53-4A80-9A9B-EFD5F627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50DA4-450D-4A93-9BAE-BBD8DEB0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E7EE-D955-4FD5-961A-7A4615FF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2AD5-B8C7-41B1-9F1B-8A41F9E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1B59-5419-4AF9-BC53-E3E093C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AFE1-C688-4658-B454-346E758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AF1A-8BEA-48F4-9473-3AD87ABE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B29-1969-4CC0-9915-FA9BABFD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7131-31E6-4475-BFB2-9EFEE4F2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AE29-AA1E-4CAF-B864-2D8EA2A4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42E6-A279-47ED-A8BE-0B09CE6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7A2D-7605-4C47-B289-EDB23CD2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FA24-6EDE-46B8-B4FB-90F7A34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A6DA-AE23-4D44-AC1C-A43A9CA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A723-8DFA-47CF-A3E8-3FE35380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934D-9B1B-4E95-BADF-D55ADCE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F873F-D9FC-42FA-96B6-5FD5D38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9B0E-00D9-4D50-B74F-9F2F803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C29-60C3-4109-BDC5-3212D6B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47C2-BF1E-4988-A26B-1538EF4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DDD4-4164-4D0A-8BE3-1231F4BF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FEEC-3948-46BE-8373-6E606B85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1FDA-AF3E-495A-BE6A-4FCA1EDC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3C9F-9181-4865-8468-E55E7965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01ED-F3E0-4B65-8487-C8767A2C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2C58-C806-41BD-8AA4-4D4E77DC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5E5C-A467-4889-9C22-759A754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4403-001E-44D9-91FF-390D5344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2C347-4BB1-4DEB-A9A7-4CFE893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9F4-6594-428C-AB5F-2A74627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16A6B-D099-4AB1-BB47-55CE0DF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1A13-9C11-41ED-A8B9-D274072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562EB-FCE0-423A-9FFC-8627A7E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57CF-7531-4EEB-866E-18A4CD7C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7F35F-9EAD-44A8-9F95-43279378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82F2D-53CC-4F67-B2CD-329B7F2E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A559-3F62-4426-85A3-AABD920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32599-91B9-42C6-8313-28C66993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B2523-BBF5-467A-8AE1-2A4E3A4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275B3-8927-4825-B452-F3A3886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FDE-618B-4C35-A27D-A081845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74A5-2571-4A35-B6AE-F2690E35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D199D-8296-4CAD-9245-443852B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F6DF-E256-4CF9-8750-6606EAA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EBA8-5A89-4A96-B453-5867B5F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D90D5-7A0D-4714-886A-4177BA9B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02BD-B756-43AF-AB25-02D64EA5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1B1C-609E-45B9-BF0D-3B925D67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06841-D122-4E58-9CFF-57257CB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35DAC-4469-4F46-8555-4BA2AB30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C76F9-5449-4FE4-95A6-0BECD55C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3A66-536C-4733-8851-6F7FBF1AA4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591-B7B6-4E0F-B01F-2A1295B83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D3E3-0CE4-4D3F-A6C9-FCA06B7EA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FC5-8466-4EBC-9186-BB10FC714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C73F-DAEC-4D12-B7E9-A108D459A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169-D518-42E2-A087-88A8F659E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D91-960D-4F0B-99AE-FAB0E439C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A27-D04B-4C56-B890-6F41A9D04D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2D7-CEB9-48A7-A86A-6D2CE21587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9D86-E17E-47B7-BE69-A04EEE68F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984-A543-4A86-A9A4-B93FC36E9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EF7-6B97-4044-9C0B-7E96AE215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071-E124-4D40-96BE-160039E96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982-4A28-44A6-918B-AA34C34CD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B950-5065-441B-9529-43D4FF0B5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4611-45F9-4B8E-9176-57642D04A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9809-CE25-470C-924E-8E2790032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8F7-0A78-47F7-9681-66AB3B54FB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CDA4-8F22-49DA-A48E-9CED7B3DC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BF9-74CF-4D0B-A4F3-8A531C64C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B691-1EF2-4997-97B5-56CA9F7F1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4B0F-0E08-4EC2-B17D-F403404BE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3B3A-078A-4D68-8502-00D96C474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987E-A47A-4B79-89D2-134EA2B7C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0240-AC51-49D5-B75E-DE2139B8AC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4483-5813-45FC-A6B8-CF58A63AC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41D-6886-4B7C-BB58-D8C17AF8D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CB6-574D-4DEE-A1AD-A230734A33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EFE-7278-4BBB-BCCB-8D430D5C32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0B1-93B5-4293-98FD-2DEE1A9D1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4F7-1472-4A7B-A3D7-D782355E4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0EF0-12B4-41F9-983A-98379B220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A82-E3FA-49D6-8557-BB062D29C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03F6-1243-4401-A297-C0A05BED8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2B1-C2DE-452B-B7BE-42DA96C3C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008-221E-44E5-8628-14DBC9C2F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C05-9918-4BD6-A99D-E73BC349B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48D-88FA-4475-94F8-728C9CDF6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D215-39FB-4DAE-88A4-CE43E29FA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DF4-4139-44CA-9B87-8172CE41F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81120" y="2529000"/>
            <a:ext cx="5981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1019160" y="1197000"/>
            <a:ext cx="7105680" cy="221940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69634" descr=""/>
          <p:cNvPicPr/>
          <p:nvPr/>
        </p:nvPicPr>
        <p:blipFill>
          <a:blip r:embed="rId2"/>
          <a:stretch/>
        </p:blipFill>
        <p:spPr>
          <a:xfrm>
            <a:off x="561960" y="3683160"/>
            <a:ext cx="8020080" cy="2266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427640" y="1728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413240" y="23781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7380360" y="17589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7380360" y="23637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050920" y="42782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050920" y="48830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4859280" y="42498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4975200" y="48546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7797960" y="42642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7797960" y="486900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451640" y="187308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524720" y="472428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24720" y="610704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23880" y="1219320"/>
            <a:ext cx="7896240" cy="4419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2519280" cy="2808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916360" y="21034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133960" y="2852640"/>
            <a:ext cx="3071880" cy="2808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791400" y="2103480"/>
            <a:ext cx="16682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719280" y="1671480"/>
            <a:ext cx="7705440" cy="3515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584440" y="1643040"/>
            <a:ext cx="1700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859280" y="2421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688080" y="1643040"/>
            <a:ext cx="1700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14280" y="1328760"/>
            <a:ext cx="8515440" cy="4200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361620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971640" y="499896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81160" y="755640"/>
            <a:ext cx="8581680" cy="5410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403280" y="36734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76360" y="5041800"/>
            <a:ext cx="7343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595440" y="1433520"/>
            <a:ext cx="7953120" cy="3990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16000" y="217656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116000" y="4221000"/>
            <a:ext cx="748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90520" y="1028880"/>
            <a:ext cx="8562960" cy="4800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376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3948120"/>
            <a:ext cx="5759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826920" y="4638600"/>
            <a:ext cx="79930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37960" y="809640"/>
            <a:ext cx="8668080" cy="5572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71640" y="4422600"/>
            <a:ext cx="63370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5129280"/>
            <a:ext cx="633744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1014480" y="5791320"/>
            <a:ext cx="63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7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